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322-6033-4607-9CBE-5FDB0EAC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90A-6E0C-4F03-A40B-BB74416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3A9E8-EF06-4099-B1BC-942B021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EB356-73C3-4B56-BB17-56D72C3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6B7C6-2030-4B25-8DEA-B77E59E3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D1DDE-721F-4D25-8ECB-7415037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CA33C-7051-439E-812D-41880B3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9DEAC-D712-451E-9398-EC343CC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0D8B7-F0F8-4F17-8E1A-40639E7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D6661-A17F-47DA-B4D3-9F7E006E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4F2F1-6E4B-4101-8D86-850F5877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68BE9-C664-423C-954D-6C091A68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65D-71AC-4FB9-89D8-0F39BC2A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4AA2B-256D-4EA6-91DD-45E9F50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A5438-5447-4324-AF16-CB99E2D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053C9-5911-420F-99D9-B7F4E2C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C093A-E294-4291-BD53-B128581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57CB6-67EB-4780-AFBE-DCFAA3BE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8875D-6CAA-49FC-A7DD-638706F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D11F7-0C27-4750-A4EE-745C19C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1A760-3003-46AE-93A8-EEF8196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63C4E-C6FC-4B82-AA2B-9D06E880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3BAC3-E4DA-446E-806D-C66321F8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549-DED6-4A5B-AA32-5EDE8DCB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C69AE-84D8-4183-986E-FC430A2D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932B-8A0E-43E1-9392-9FB910ED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DF6C-1003-43F5-B785-AF0A360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BE56A-660C-4956-9E77-F34FB96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0AB33-8A24-4FCD-8D89-FE227171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6A903-D7FB-41CD-AF78-0942913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A72E-46F8-4DCD-8495-12672B9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2B2E0-BED6-4D2E-A925-E2588C4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0DC5-F102-4726-8074-E13F99B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B1F5-819E-4389-A906-569D4FC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C280-17F5-47E4-BC44-B311F729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C5F1D-80E2-44D8-9B3B-C9692E4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FAB2-8439-402A-BF3A-E83EF6C1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1D3F5-013F-4A18-BE8B-D90515D5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EB962-7B26-4DE0-9D11-70177EC1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1EBC2-A8F1-46FF-84E2-9D03564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605F8-E6FF-4774-9753-FC281A3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9E355-0C72-4AE5-8503-174F10B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31DAD-3516-46B6-9707-4BF0727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A4EB4-D679-470C-B9E4-7E4895F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09714-8425-419B-A0F0-890C0BE7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9F98-2564-4B80-B159-7D56076B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DF150-DE63-4BB1-9F4C-531A31F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F3D33-4D1D-4DE9-99AC-4BFD2AB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A201A-41DC-44FF-91DC-D26D9692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B8C66-440D-45D9-B7CB-24AFD014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F9593-0E78-4796-A581-4C3D6AA8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169-0A41-498E-8542-51C459C8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50E-741E-4EBC-AE26-B7307CF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942E-3889-4591-807D-066147A2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2AEB-4C91-4D73-987B-6052EBB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FF3C-4980-4987-99F6-83628F1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016-5D37-4897-BDEA-3D771BC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57FA-FB71-4505-84C3-1653609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EE1F-7D23-4BEA-8D28-67D3C00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958-B2E0-451F-9FC6-34DEE378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B677-05F7-4A20-945C-CFDE3C90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3E33-9FCA-4C49-8D67-E471C664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BC20-6E92-41DF-81DB-A12B43D0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4A48-484C-4440-8E39-6A39550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A158-CB5D-455A-B71E-838ACB8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C348-27D5-469C-813F-2AF33DC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1A3A-FBD9-49A5-B5ED-B6B4A35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627-EB06-48AA-BF79-DE30652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618C-E5C2-47FF-BEB2-EC140DD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E1A0-9170-4E26-A95D-9710DA04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CF87-6D53-47D3-B240-A939EE7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9E03-E469-4B58-B104-2A7437F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3BCE-323E-429C-A462-E2AFABC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FEE8-10D5-481E-8BB3-BCB6108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C02A-242E-4CC5-8614-04DEACA9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FAA1-33AA-4C35-B3CD-047E5E40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09BF-6663-416E-BF71-E428D03B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7170-D388-43E6-8FE6-F7918B3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66D-999A-43E1-9BD8-2CC4F45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5A73-28BC-420D-A3FB-4CA7FF86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C03C-A02A-4770-99D3-26FA778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3C37-DACA-4511-B398-7054495A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38D7-90AB-4705-A690-7CCB0BC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3D72-11ED-40DA-92DA-1615BCB3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CF66-1214-4C1E-8482-FD07A45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86D5-9584-4805-9DE9-1FD8606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EE1F-213F-4463-91D3-6EBB8FDB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7849-8177-471E-94A9-8D66FC3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679B-FAD0-46FE-80B2-194B4565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755-A062-4219-A20B-1C69CB4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E91C-E375-455A-9D17-9DC41DF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E62E-8BC1-4599-9E80-A49DF4C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C218-D7D5-490C-A1D4-828A626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6331-B53A-473C-813E-15ED46BA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1472-49CC-40BE-8ABD-B35E422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CC1E-88D7-41F4-8E80-059017D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9E69-30FE-4F5A-89AB-A104156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C761-7931-4743-8452-8F5CBB6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9CD2-B28A-4497-B9E9-6281F43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9A09F-209E-437A-B8F5-753996F8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99F-AC6F-4BD9-A3A5-22C963D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4A24-4E87-4352-8C28-8D4180A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7F18-092F-4546-B11E-D05DA1BF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409A-0DDE-49E4-9EE3-87929BC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44F7-C02B-46A2-A41B-333D1530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7EF11-B3C5-4B5C-A588-5D2AEAB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6778-7E10-4BE6-A295-C7AF8625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BDCA-E9C3-4D2B-B939-1D8FDB8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B660-B8FE-42A9-AB19-7C16752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73CA-F7EE-4789-93B9-48EB0F2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142CB-A5F5-4C86-92F9-533B86B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48A-F288-4322-82F1-2B24749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1DBA-9C66-48C9-967A-14A27CA8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6439-15CF-4D48-A2D5-B4A9D794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3F4D-FB36-41EC-9A34-1717AD88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2477-637F-4F0E-8DA9-8B301DCA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C3185-3306-4EA0-82C3-BBC932F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5043-C203-4E52-B926-57019F9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896C-16B1-4167-BCC5-C112F3D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458F-D3E0-4751-848E-1D548F5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949E-2780-4E92-AEDF-5A0D20F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5F3D-0E45-4687-A704-A81090C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5AC-DE84-4977-B362-7913D79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63AD-82A6-4F59-9EC7-9A9D26C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A694-04FD-4E5D-BBA7-C81183F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330C-5F78-4151-B52A-394EEB46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FB4F2-8882-445C-9EA0-05C05FD9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BFF7E-9987-4C2A-BDD2-FEC9C715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5046F-1ED1-43DF-8099-44DD8D62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BB997-EABE-4D78-A93B-1D3F8D12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EEA02-7911-4A66-ADBB-4FEB970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DEFD-3BD2-49BA-8EA4-ADE491B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9C5CE-8552-43DC-8370-CFF9EB91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167-4236-4D7C-B1A9-4A2CD9C7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1AEB5-4EE7-477B-9735-16CADF31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0AE0-7858-4928-B5C0-C1033D9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BE508-6043-4DFD-B6F7-756FA4A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F63B-0307-4698-8973-A0B0449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FBA13-A1B0-45D9-BB09-E550900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3BEF-0CE0-4C9F-A4CA-173212FE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89CA-FC3D-4829-9A01-80BF91EA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ECF0-6154-49AD-A894-3E8AEB2E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18A0C-E389-4A9F-BA6E-4814599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9A5CF-AACE-4E12-A778-BE63F242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5E7-256B-4A65-801C-F6171F4BA1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FB3E-F066-4687-9F83-630E5DA30CD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13B9-A353-4E71-82A3-01FF3C622B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DAC7-5DFE-4364-949B-2D89DA3B3F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6625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26626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6627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6628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6629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6630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6631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6EF3-AFB4-48D9-99B9-0C1ECD0AE9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046-19B1-42B4-816F-23D85F8F75A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975-2A84-4289-938F-0AF2BCE0EC3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B1B-EFEE-4BBF-80AD-52E9743F48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92F5-FDA0-4182-9D49-615BC9459F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EEF-8A2F-438E-9AAF-5AE65BD515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88B-C147-4A5A-8B4D-A9FF115841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60C-CACA-473C-929E-73C827379A4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1" descr=""/>
          <p:cNvPicPr/>
          <p:nvPr/>
        </p:nvPicPr>
        <p:blipFill>
          <a:blip r:embed="rId1"/>
          <a:srcRect l="26074" t="11167" r="26497" b="12533"/>
          <a:stretch/>
        </p:blipFill>
        <p:spPr>
          <a:xfrm>
            <a:off x="8774280" y="817560"/>
            <a:ext cx="2654280" cy="6040440"/>
          </a:xfrm>
          <a:prstGeom prst="rect">
            <a:avLst/>
          </a:prstGeom>
          <a:ln w="0">
            <a:noFill/>
          </a:ln>
        </p:spPr>
      </p:pic>
      <p:sp>
        <p:nvSpPr>
          <p:cNvPr id="507" name="圆角矩形标注 2"/>
          <p:cNvSpPr/>
          <p:nvPr/>
        </p:nvSpPr>
        <p:spPr>
          <a:xfrm>
            <a:off x="1569960" y="2413080"/>
            <a:ext cx="5978520" cy="3097080"/>
          </a:xfrm>
          <a:prstGeom prst="wedgeRoundRectCallout">
            <a:avLst>
              <a:gd name="adj1" fmla="val 64370"/>
              <a:gd name="adj2" fmla="val -45425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同学们知道老师叫什么名字吗？猜一猜老师为什么叫这个名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8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09" name="图片 14" descr="PPT图标蓝色"/>
            <p:cNvPicPr/>
            <p:nvPr/>
          </p:nvPicPr>
          <p:blipFill>
            <a:blip r:embed="rId2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新课导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1"/>
          <p:cNvSpPr/>
          <p:nvPr/>
        </p:nvSpPr>
        <p:spPr>
          <a:xfrm>
            <a:off x="476280" y="142920"/>
            <a:ext cx="112395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我国地质学家李四光，原名李仲葵。他在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14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岁时便以优异的成绩获准公费留学日本，可是他在填写登记表时误将年龄“十四”填入了姓名栏内。由于表格不好换，他急中生智，将“十”字加上几笔改成了“李”字，“四”字却无法再改。但是叫“李四”这名字不好听又没有意义。怎么办？他一抬头，看到中堂大匾上有“光被四表”四个大字，这四个大字是形容盛德善行远播四方的，于是他灵机一动，在“李四”后面加上一个“光”字，后来便叫李四光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2" name="图片 2" descr=""/>
          <p:cNvPicPr/>
          <p:nvPr/>
        </p:nvPicPr>
        <p:blipFill>
          <a:blip r:embed="rId1"/>
          <a:srcRect l="34139" t="0" r="30640" b="51241"/>
          <a:stretch/>
        </p:blipFill>
        <p:spPr>
          <a:xfrm>
            <a:off x="476280" y="142920"/>
            <a:ext cx="101448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"/>
          <p:cNvSpPr/>
          <p:nvPr/>
        </p:nvSpPr>
        <p:spPr>
          <a:xfrm>
            <a:off x="476280" y="920880"/>
            <a:ext cx="1123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我国现代作家张恨水，原名张心远。有一次他读了李煜《乌夜啼》末句诗“自是人生长恨水长东”后，醒悟到时间如流水，切不可让它在叹息中白白流逝。于是改名张恨水，作为对自己一生的鞭策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4" name="图片 2" descr=""/>
          <p:cNvPicPr/>
          <p:nvPr/>
        </p:nvPicPr>
        <p:blipFill>
          <a:blip r:embed="rId1"/>
          <a:srcRect l="70271" t="0" r="-1582" b="48305"/>
          <a:stretch/>
        </p:blipFill>
        <p:spPr>
          <a:xfrm>
            <a:off x="214200" y="189000"/>
            <a:ext cx="14367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"/>
          <p:cNvPicPr/>
          <p:nvPr/>
        </p:nvPicPr>
        <p:blipFill>
          <a:blip r:embed="rId1"/>
          <a:srcRect l="10912" t="5840" r="10980" b="5781"/>
          <a:stretch/>
        </p:blipFill>
        <p:spPr>
          <a:xfrm>
            <a:off x="-11160" y="1682640"/>
            <a:ext cx="3124080" cy="4997520"/>
          </a:xfrm>
          <a:prstGeom prst="rect">
            <a:avLst/>
          </a:prstGeom>
          <a:ln w="0">
            <a:noFill/>
          </a:ln>
        </p:spPr>
      </p:pic>
      <p:sp>
        <p:nvSpPr>
          <p:cNvPr id="556" name="圆角矩形标注 5"/>
          <p:cNvSpPr/>
          <p:nvPr/>
        </p:nvSpPr>
        <p:spPr>
          <a:xfrm>
            <a:off x="3511440" y="1089000"/>
            <a:ext cx="8674200" cy="5591160"/>
          </a:xfrm>
          <a:prstGeom prst="wedgeRoundRectCallout">
            <a:avLst>
              <a:gd name="adj1" fmla="val -53740"/>
              <a:gd name="adj2" fmla="val -16486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大家认识王昊和谢婉莹吗？那知道月亮姐姐吗？冰心呢？告诉你们，其实王昊就是月亮姐姐，谢婉滢就是冰心奶奶。原来王昊、谢婉滢是她们的父母给取的大名，而月亮姐姐、冰心是别人或者自己根据她们的职业、爱好等给取的昵称或笔名。假如让你给自己取个名字，你会取怎样的名字？说清楚是那几个字，并说出理由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58" name="图片 14" descr="PPT图标蓝色"/>
            <p:cNvPicPr/>
            <p:nvPr/>
          </p:nvPicPr>
          <p:blipFill>
            <a:blip r:embed="rId2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课外训练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矩形 1" descr=""/>
          <p:cNvPicPr/>
          <p:nvPr/>
        </p:nvPicPr>
        <p:blipFill>
          <a:blip r:embed="rId1"/>
          <a:stretch/>
        </p:blipFill>
        <p:spPr>
          <a:xfrm>
            <a:off x="1947960" y="3438360"/>
            <a:ext cx="5308560" cy="1006560"/>
          </a:xfrm>
          <a:prstGeom prst="rect">
            <a:avLst/>
          </a:prstGeom>
          <a:ln w="0">
            <a:noFill/>
          </a:ln>
        </p:spPr>
      </p:pic>
      <p:pic>
        <p:nvPicPr>
          <p:cNvPr id="512" name="矩形 4" descr=""/>
          <p:cNvPicPr/>
          <p:nvPr/>
        </p:nvPicPr>
        <p:blipFill>
          <a:blip r:embed="rId2"/>
          <a:stretch/>
        </p:blipFill>
        <p:spPr>
          <a:xfrm>
            <a:off x="6039000" y="4538520"/>
            <a:ext cx="3797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" descr=""/>
          <p:cNvPicPr/>
          <p:nvPr/>
        </p:nvPicPr>
        <p:blipFill>
          <a:blip r:embed="rId1"/>
          <a:srcRect l="11931" t="0" r="0" b="817"/>
          <a:stretch/>
        </p:blipFill>
        <p:spPr>
          <a:xfrm>
            <a:off x="-11160" y="1231920"/>
            <a:ext cx="4997520" cy="5626080"/>
          </a:xfrm>
          <a:prstGeom prst="rect">
            <a:avLst/>
          </a:prstGeom>
          <a:ln w="0">
            <a:noFill/>
          </a:ln>
        </p:spPr>
      </p:pic>
      <p:sp>
        <p:nvSpPr>
          <p:cNvPr id="514" name="圆角矩形标注 10"/>
          <p:cNvSpPr/>
          <p:nvPr/>
        </p:nvSpPr>
        <p:spPr>
          <a:xfrm>
            <a:off x="4986360" y="460440"/>
            <a:ext cx="6994440" cy="5937120"/>
          </a:xfrm>
          <a:prstGeom prst="wedgeRoundRectCallout">
            <a:avLst>
              <a:gd name="adj1" fmla="val -55976"/>
              <a:gd name="adj2" fmla="val -15287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每个人都有自己的名字。你知道你的名字有什么含义吗？回家问问长辈吧。你的名字也许包含着他们对你的期待，说不定，里面还藏着一个故事呢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1" descr=""/>
          <p:cNvPicPr/>
          <p:nvPr/>
        </p:nvPicPr>
        <p:blipFill>
          <a:blip r:embed="rId1"/>
          <a:stretch/>
        </p:blipFill>
        <p:spPr>
          <a:xfrm>
            <a:off x="9772560" y="1643040"/>
            <a:ext cx="1460520" cy="14907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" descr=""/>
          <p:cNvPicPr/>
          <p:nvPr/>
        </p:nvPicPr>
        <p:blipFill>
          <a:blip r:embed="rId2"/>
          <a:stretch/>
        </p:blipFill>
        <p:spPr>
          <a:xfrm>
            <a:off x="671400" y="-15840"/>
            <a:ext cx="1492200" cy="14922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" descr=""/>
          <p:cNvPicPr/>
          <p:nvPr/>
        </p:nvPicPr>
        <p:blipFill>
          <a:blip r:embed="rId3"/>
          <a:stretch/>
        </p:blipFill>
        <p:spPr>
          <a:xfrm>
            <a:off x="531720" y="3133800"/>
            <a:ext cx="1773360" cy="1773000"/>
          </a:xfrm>
          <a:prstGeom prst="rect">
            <a:avLst/>
          </a:prstGeom>
          <a:ln w="0">
            <a:noFill/>
          </a:ln>
        </p:spPr>
      </p:pic>
      <p:sp>
        <p:nvSpPr>
          <p:cNvPr id="518" name="圆角矩形标注 5"/>
          <p:cNvSpPr/>
          <p:nvPr/>
        </p:nvSpPr>
        <p:spPr>
          <a:xfrm>
            <a:off x="2379600" y="108000"/>
            <a:ext cx="9075960" cy="1368360"/>
          </a:xfrm>
          <a:prstGeom prst="wedgeRoundRectCallout">
            <a:avLst>
              <a:gd name="adj1" fmla="val -52472"/>
              <a:gd name="adj2" fmla="val -27171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我的名字叫杨子衿，取自《诗经》中的</a:t>
            </a: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青青子衿，悠悠我心</a:t>
            </a: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图片 6" descr=""/>
          <p:cNvPicPr/>
          <p:nvPr/>
        </p:nvPicPr>
        <p:blipFill>
          <a:blip r:embed="rId4"/>
          <a:stretch/>
        </p:blipFill>
        <p:spPr>
          <a:xfrm>
            <a:off x="9551880" y="4906800"/>
            <a:ext cx="1903680" cy="1935360"/>
          </a:xfrm>
          <a:prstGeom prst="rect">
            <a:avLst/>
          </a:prstGeom>
          <a:ln w="0">
            <a:noFill/>
          </a:ln>
        </p:spPr>
      </p:pic>
      <p:sp>
        <p:nvSpPr>
          <p:cNvPr id="520" name="圆角矩形标注 7"/>
          <p:cNvSpPr/>
          <p:nvPr/>
        </p:nvSpPr>
        <p:spPr>
          <a:xfrm>
            <a:off x="792000" y="1643040"/>
            <a:ext cx="8759880" cy="1368360"/>
          </a:xfrm>
          <a:prstGeom prst="wedgeRoundRectCallout">
            <a:avLst>
              <a:gd name="adj1" fmla="val 52041"/>
              <a:gd name="adj2" fmla="val -18953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的名字叫何大伟，因为爸爸妈妈希望我长大后成为一个伟大的人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圆角矩形标注 10"/>
          <p:cNvSpPr/>
          <p:nvPr/>
        </p:nvSpPr>
        <p:spPr>
          <a:xfrm>
            <a:off x="2379600" y="3335400"/>
            <a:ext cx="9075960" cy="1368360"/>
          </a:xfrm>
          <a:prstGeom prst="wedgeRoundRectCallout">
            <a:avLst>
              <a:gd name="adj1" fmla="val -52472"/>
              <a:gd name="adj2" fmla="val -27171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我的名字叫桑白露，因为我出生的那天刚好是二十四节气中的白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圆角矩形标注 11"/>
          <p:cNvSpPr/>
          <p:nvPr/>
        </p:nvSpPr>
        <p:spPr>
          <a:xfrm>
            <a:off x="792000" y="5191200"/>
            <a:ext cx="8759880" cy="1368360"/>
          </a:xfrm>
          <a:prstGeom prst="wedgeRoundRectCallout">
            <a:avLst>
              <a:gd name="adj1" fmla="val 52041"/>
              <a:gd name="adj2" fmla="val -18953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的名字叫常慕白，我因为爸爸姓常，妈妈姓白，而我是爸爸妈妈爱情的结晶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圆角矩形 1"/>
          <p:cNvSpPr/>
          <p:nvPr/>
        </p:nvSpPr>
        <p:spPr>
          <a:xfrm>
            <a:off x="298440" y="230040"/>
            <a:ext cx="4832280" cy="107028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d0d0d"/>
                </a:solidFill>
                <a:uFillTx/>
                <a:latin typeface="华文行楷"/>
                <a:ea typeface="华文行楷"/>
              </a:rPr>
              <a:t>名字的来历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云形 2"/>
          <p:cNvSpPr/>
          <p:nvPr/>
        </p:nvSpPr>
        <p:spPr>
          <a:xfrm>
            <a:off x="944640" y="1649520"/>
            <a:ext cx="2844720" cy="141264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时间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云形 3"/>
          <p:cNvSpPr/>
          <p:nvPr/>
        </p:nvSpPr>
        <p:spPr>
          <a:xfrm>
            <a:off x="4309920" y="2705040"/>
            <a:ext cx="4578480" cy="132084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家人的期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云形 4"/>
          <p:cNvSpPr/>
          <p:nvPr/>
        </p:nvSpPr>
        <p:spPr>
          <a:xfrm>
            <a:off x="6183360" y="485640"/>
            <a:ext cx="5746680" cy="16416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出自诗词典籍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云形 5"/>
          <p:cNvSpPr/>
          <p:nvPr/>
        </p:nvSpPr>
        <p:spPr>
          <a:xfrm>
            <a:off x="804960" y="4025880"/>
            <a:ext cx="390528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五行八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云形 6"/>
          <p:cNvSpPr/>
          <p:nvPr/>
        </p:nvSpPr>
        <p:spPr>
          <a:xfrm>
            <a:off x="8888400" y="3627360"/>
            <a:ext cx="284796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天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云形 7"/>
          <p:cNvSpPr/>
          <p:nvPr/>
        </p:nvSpPr>
        <p:spPr>
          <a:xfrm>
            <a:off x="4984920" y="5176800"/>
            <a:ext cx="390348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出生地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1"/>
          <p:cNvSpPr/>
          <p:nvPr/>
        </p:nvSpPr>
        <p:spPr>
          <a:xfrm>
            <a:off x="298440" y="230040"/>
            <a:ext cx="4011480" cy="107028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d0d0d"/>
                </a:solidFill>
                <a:uFillTx/>
                <a:latin typeface="华文行楷"/>
                <a:ea typeface="华文行楷"/>
              </a:rPr>
              <a:t>注意事项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1" name="组合 9"/>
          <p:cNvGrpSpPr/>
          <p:nvPr/>
        </p:nvGrpSpPr>
        <p:grpSpPr>
          <a:xfrm>
            <a:off x="-11160" y="1300320"/>
            <a:ext cx="9180720" cy="2820960"/>
            <a:chOff x="-11160" y="1300320"/>
            <a:chExt cx="9180720" cy="2820960"/>
          </a:xfrm>
        </p:grpSpPr>
        <p:sp>
          <p:nvSpPr>
            <p:cNvPr id="532" name="云形 4"/>
            <p:cNvSpPr/>
            <p:nvPr/>
          </p:nvSpPr>
          <p:spPr>
            <a:xfrm>
              <a:off x="-11160" y="1300320"/>
              <a:ext cx="9180720" cy="282096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文本框 8"/>
            <p:cNvSpPr/>
            <p:nvPr/>
          </p:nvSpPr>
          <p:spPr>
            <a:xfrm>
              <a:off x="700920" y="1775880"/>
              <a:ext cx="775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    </a:t>
              </a:r>
              <a:r>
                <a:rPr b="0" i="1" lang="zh-CN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说清楚名字是哪几个字，怎么写；名字是谁给取的；为什么叫这个名字；说说小名。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4" name="组合 10"/>
          <p:cNvGrpSpPr/>
          <p:nvPr/>
        </p:nvGrpSpPr>
        <p:grpSpPr>
          <a:xfrm>
            <a:off x="2597040" y="4029120"/>
            <a:ext cx="9180720" cy="2736720"/>
            <a:chOff x="2597040" y="4029120"/>
            <a:chExt cx="9180720" cy="2736720"/>
          </a:xfrm>
        </p:grpSpPr>
        <p:sp>
          <p:nvSpPr>
            <p:cNvPr id="535" name="云形 11"/>
            <p:cNvSpPr/>
            <p:nvPr/>
          </p:nvSpPr>
          <p:spPr>
            <a:xfrm>
              <a:off x="2597040" y="4029120"/>
              <a:ext cx="9180720" cy="273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文本框 12"/>
            <p:cNvSpPr/>
            <p:nvPr/>
          </p:nvSpPr>
          <p:spPr>
            <a:xfrm>
              <a:off x="3309120" y="4490640"/>
              <a:ext cx="775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    </a:t>
              </a:r>
              <a:r>
                <a:rPr b="0" i="1" lang="zh-CN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听同学讲的时候，如果有感兴趣的或不理解的内容，可以想讲的同学提出来，进一步了解。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38" name="图片 14" descr="PPT图标蓝色"/>
            <p:cNvPicPr/>
            <p:nvPr/>
          </p:nvPicPr>
          <p:blipFill>
            <a:blip r:embed="rId1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实战演练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0" name="圆角矩形 10"/>
          <p:cNvSpPr/>
          <p:nvPr/>
        </p:nvSpPr>
        <p:spPr>
          <a:xfrm>
            <a:off x="1646280" y="2030400"/>
            <a:ext cx="9485280" cy="3521160"/>
          </a:xfrm>
          <a:prstGeom prst="roundRect">
            <a:avLst>
              <a:gd name="adj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8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根据老师刚刚给出的提示，大家分小组说一说吧！组内评选出说得最好的同学，在全班汇报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" descr=""/>
          <p:cNvPicPr/>
          <p:nvPr/>
        </p:nvPicPr>
        <p:blipFill>
          <a:blip r:embed="rId1"/>
          <a:srcRect l="8648" t="0" r="13609" b="0"/>
          <a:stretch/>
        </p:blipFill>
        <p:spPr>
          <a:xfrm>
            <a:off x="8139240" y="2087640"/>
            <a:ext cx="3724200" cy="4519440"/>
          </a:xfrm>
          <a:prstGeom prst="rect">
            <a:avLst/>
          </a:prstGeom>
          <a:ln w="0">
            <a:noFill/>
          </a:ln>
        </p:spPr>
      </p:pic>
      <p:sp>
        <p:nvSpPr>
          <p:cNvPr id="542" name="圆角矩形标注 5"/>
          <p:cNvSpPr/>
          <p:nvPr/>
        </p:nvSpPr>
        <p:spPr>
          <a:xfrm>
            <a:off x="741240" y="677880"/>
            <a:ext cx="7398000" cy="3281400"/>
          </a:xfrm>
          <a:prstGeom prst="wedgeRoundRectCallout">
            <a:avLst>
              <a:gd name="adj1" fmla="val 58018"/>
              <a:gd name="adj2" fmla="val -5004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和同学交流之后，回家给家里说说，你从同学的讲述里知道了哪些新鲜事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493560" y="4740120"/>
            <a:ext cx="7645680" cy="1622520"/>
          </a:xfrm>
          <a:prstGeom prst="rect">
            <a:avLst/>
          </a:prstGeom>
          <a:solidFill>
            <a:srgbClr val="f3f3ff"/>
          </a:solidFill>
          <a:ln w="12600">
            <a:solidFill>
              <a:srgbClr val="6a6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30000"/>
              </a:lnSpc>
              <a:buClr>
                <a:srgbClr val="0d0d0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讲清楚了解到的信息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d0d0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听别人讲话的时候，要礼貌地回应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" descr=""/>
          <p:cNvPicPr/>
          <p:nvPr/>
        </p:nvPicPr>
        <p:blipFill>
          <a:blip r:embed="rId1"/>
          <a:srcRect l="47836" t="33039" r="21792" b="18901"/>
          <a:stretch/>
        </p:blipFill>
        <p:spPr>
          <a:xfrm>
            <a:off x="9201240" y="289080"/>
            <a:ext cx="2894040" cy="40320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2" descr=""/>
          <p:cNvPicPr/>
          <p:nvPr/>
        </p:nvPicPr>
        <p:blipFill>
          <a:blip r:embed="rId2"/>
          <a:srcRect l="9968" t="30366" r="52848" b="18060"/>
          <a:stretch/>
        </p:blipFill>
        <p:spPr>
          <a:xfrm>
            <a:off x="-38160" y="2365200"/>
            <a:ext cx="3541680" cy="4327560"/>
          </a:xfrm>
          <a:prstGeom prst="rect">
            <a:avLst/>
          </a:prstGeom>
          <a:ln w="0">
            <a:noFill/>
          </a:ln>
        </p:spPr>
      </p:pic>
      <p:sp>
        <p:nvSpPr>
          <p:cNvPr id="546" name="圆角矩形标注 5"/>
          <p:cNvSpPr/>
          <p:nvPr/>
        </p:nvSpPr>
        <p:spPr>
          <a:xfrm>
            <a:off x="3759120" y="507960"/>
            <a:ext cx="5186520" cy="2330640"/>
          </a:xfrm>
          <a:prstGeom prst="wedgeRoundRectCallout">
            <a:avLst>
              <a:gd name="adj1" fmla="val 53944"/>
              <a:gd name="adj2" fmla="val -19328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有些知名人物的名字很有趣，我想去了解一下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圆角矩形标注 7"/>
          <p:cNvSpPr/>
          <p:nvPr/>
        </p:nvSpPr>
        <p:spPr>
          <a:xfrm>
            <a:off x="3646440" y="3784680"/>
            <a:ext cx="5133960" cy="2538360"/>
          </a:xfrm>
          <a:prstGeom prst="wedgeRoundRectCallout">
            <a:avLst>
              <a:gd name="adj1" fmla="val -53097"/>
              <a:gd name="adj2" fmla="val -31615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还要问问家里人，看看他们名字有什么含义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8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49" name="图片 14" descr="PPT图标蓝色"/>
            <p:cNvPicPr/>
            <p:nvPr/>
          </p:nvPicPr>
          <p:blipFill>
            <a:blip r:embed="rId3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拓展延伸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1:33:00Z</dcterms:created>
  <dc:creator/>
  <dc:description/>
  <dc:language>en-US</dc:language>
  <cp:lastModifiedBy>万润仪器贸易公司</cp:lastModifiedBy>
  <dcterms:modified xsi:type="dcterms:W3CDTF">2020-08-19T03:30:02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